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E9E-811E-46A2-B565-D73EF79E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6D6-6BD5-4F81-8E89-50148F4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5EB-EC48-40BB-A821-698625BD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6CE-125D-430D-B2F1-41FF320D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3922E-B77D-4B69-A56E-64FD495F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44537-BF54-4947-B562-E5A880A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18F4-FC93-4E73-815A-D393DAA1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283DB-858B-4B29-B23A-035519C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711C-6430-477A-B01C-93C4476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15EF3-5584-40C8-8BCB-2D4A0AE6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9BFF-83B0-4848-BD88-2EB4F6A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227-9374-4C91-AB13-5980B56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2E7D-0135-4EED-A3B3-1A4EEB9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B2F2-A87F-4C22-A167-834E415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2DB9-7492-4232-9A71-B35776B4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5F9B6-86ED-4D0C-B966-773A7883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DBAE-9FEE-4486-8466-2AF2CE93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5285-2A9A-4FC5-A06E-93499AFD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B815-BD34-4128-AF47-79E7B220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4BB7-ABEE-4206-8436-EA60174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0515-27C5-43CC-838D-6296D64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D1C4-D5CF-4F71-9F71-861456F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5E3-8223-4C79-B767-021D36A6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F214-B3DB-452A-A46A-A1B28A81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E794-6ACF-496F-AA87-F49ABBD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B9C4-473C-4EA2-BA01-B71DBC6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7DDD-1E4C-4E70-8B09-A667529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C6EE-EB19-4A68-AE50-21778F8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D4AF-2789-4F07-83FA-7A4B9DC6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23DD-62CB-4301-AE14-9C912E9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E4D-9BEC-4118-A6BB-8B64C28D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964-4F60-4E74-B054-FB7976F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7E7-3591-47B1-B42A-440B4A76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952-14FF-48F5-B9F7-EB56663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65B-0B93-4D3D-BE3D-DA1847A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55E-2ADB-4D7D-AF0A-D8F2AC7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450E-E803-4CF6-8E3D-3D06C1C8C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3021-EF4D-48E5-9750-689FBA2C9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EEE0-E016-4CA6-8D8F-0345CCF4B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ANd9GcSWA1GuYIZNvGoUuiFjqIOKoKJilyAmwhYJX5nGFc69HgD47W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d land Ecosyst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am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0" y="0"/>
            <a:ext cx="14763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809880" y="3124080"/>
            <a:ext cx="1476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4478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animals will only live in rivers that f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 that live in the river don’t usually don't  live in the oce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animals live in different riv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0" y="0"/>
            <a:ext cx="16765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3212640" y="373392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270880" y="460044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ocations are North America and Ama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0"/>
            <a:ext cx="2629080" cy="1743120"/>
            <a:chOff x="0" y="0"/>
            <a:chExt cx="2629080" cy="1743120"/>
          </a:xfrm>
        </p:grpSpPr>
        <p:pic>
          <p:nvPicPr>
            <p:cNvPr id="305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6"/>
            <p:cNvSpPr/>
            <p:nvPr/>
          </p:nvSpPr>
          <p:spPr>
            <a:xfrm>
              <a:off x="200160" y="27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227640" y="0"/>
            <a:ext cx="2905200" cy="1935000"/>
            <a:chOff x="6227640" y="0"/>
            <a:chExt cx="2905200" cy="1935000"/>
          </a:xfrm>
        </p:grpSpPr>
        <p:pic>
          <p:nvPicPr>
            <p:cNvPr id="308" name="Picture 8" descr=""/>
            <p:cNvPicPr/>
            <p:nvPr/>
          </p:nvPicPr>
          <p:blipFill>
            <a:blip r:embed="rId3"/>
            <a:stretch/>
          </p:blipFill>
          <p:spPr>
            <a:xfrm>
              <a:off x="6227640" y="0"/>
              <a:ext cx="29052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7"/>
            <p:cNvSpPr/>
            <p:nvPr/>
          </p:nvSpPr>
          <p:spPr>
            <a:xfrm>
              <a:off x="6405120" y="184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0" y="4964040"/>
            <a:ext cx="2467080" cy="1847880"/>
            <a:chOff x="0" y="4964040"/>
            <a:chExt cx="2467080" cy="1847880"/>
          </a:xfrm>
        </p:grpSpPr>
        <p:pic>
          <p:nvPicPr>
            <p:cNvPr id="311" name="Picture 9" descr=""/>
            <p:cNvPicPr/>
            <p:nvPr/>
          </p:nvPicPr>
          <p:blipFill>
            <a:blip r:embed="rId4"/>
            <a:stretch/>
          </p:blipFill>
          <p:spPr>
            <a:xfrm>
              <a:off x="0" y="496404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8"/>
            <p:cNvSpPr/>
            <p:nvPr/>
          </p:nvSpPr>
          <p:spPr>
            <a:xfrm>
              <a:off x="171000" y="50007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10240" y="5153040"/>
            <a:ext cx="2648160" cy="1724040"/>
            <a:chOff x="6510240" y="5153040"/>
            <a:chExt cx="2648160" cy="1724040"/>
          </a:xfrm>
        </p:grpSpPr>
        <p:pic>
          <p:nvPicPr>
            <p:cNvPr id="314" name="Picture 10" descr=""/>
            <p:cNvPicPr/>
            <p:nvPr/>
          </p:nvPicPr>
          <p:blipFill>
            <a:blip r:embed="rId5"/>
            <a:stretch/>
          </p:blipFill>
          <p:spPr>
            <a:xfrm>
              <a:off x="6510240" y="5153040"/>
              <a:ext cx="264816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9"/>
            <p:cNvSpPr/>
            <p:nvPr/>
          </p:nvSpPr>
          <p:spPr>
            <a:xfrm>
              <a:off x="7357680" y="53704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42840" y="533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003300"/>
                </a:solidFill>
                <a:latin typeface="Arial"/>
              </a:rPr>
              <a:t>Wetlan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2280" y="2057040"/>
            <a:ext cx="56390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can be salt water , fresh water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r brackish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are on every continent bu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ntarc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etlands have tall gr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3279240" y="434340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685800" y="5029200"/>
            <a:ext cx="62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ome locations of wetlands are Florida and South Caro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5318280"/>
            <a:ext cx="1905120" cy="1539720"/>
            <a:chOff x="0" y="5318280"/>
            <a:chExt cx="1905120" cy="153972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5372280"/>
              <a:ext cx="19051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67560" y="53182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000920" y="4724280"/>
            <a:ext cx="2143080" cy="2133720"/>
            <a:chOff x="7000920" y="4724280"/>
            <a:chExt cx="2143080" cy="2133720"/>
          </a:xfrm>
        </p:grpSpPr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7000920" y="4724280"/>
              <a:ext cx="21430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162920" y="47242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34320" y="0"/>
            <a:ext cx="2209680" cy="1905120"/>
            <a:chOff x="6934320" y="0"/>
            <a:chExt cx="2209680" cy="19051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934320" y="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368200" y="604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0" y="-27000"/>
            <a:ext cx="2467080" cy="1847880"/>
            <a:chOff x="0" y="-27000"/>
            <a:chExt cx="2467080" cy="184788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355760" y="13644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ld 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ral Reef biom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3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 reefs Coral reefs have a relationship with alga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 better in water that does not have much nutr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l reefs cant be in water 17 degrees or lo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 reefs are found on the coast of Florida  and Austral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63" name="Picture 5" descr="ANd9GcTLS42Tl6ipolHzMLW7k0C_VcjBZFt3jYibQpMRRYT9vAe0Ajwz_w"/>
            <p:cNvPicPr/>
            <p:nvPr/>
          </p:nvPicPr>
          <p:blipFill>
            <a:blip r:embed="rId1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1800" y="502920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umpet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105520" y="5200560"/>
            <a:ext cx="2762280" cy="1658880"/>
            <a:chOff x="5105520" y="5200560"/>
            <a:chExt cx="2762280" cy="1658880"/>
          </a:xfrm>
        </p:grpSpPr>
        <p:pic>
          <p:nvPicPr>
            <p:cNvPr id="166" name="Picture 8" descr="ANd9GcQftbDnnAIsA9xrP-aCReJAWc-2iNgZ9SIXOYjoJm7f4mugMXF_Vg"/>
            <p:cNvPicPr/>
            <p:nvPr/>
          </p:nvPicPr>
          <p:blipFill>
            <a:blip r:embed="rId2"/>
            <a:stretch/>
          </p:blipFill>
          <p:spPr>
            <a:xfrm>
              <a:off x="5105520" y="5200560"/>
              <a:ext cx="2762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9"/>
            <p:cNvSpPr/>
            <p:nvPr/>
          </p:nvSpPr>
          <p:spPr>
            <a:xfrm>
              <a:off x="5106960" y="649116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Gr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1712880"/>
            <a:ext cx="2058120" cy="1725480"/>
            <a:chOff x="228600" y="1712880"/>
            <a:chExt cx="2058120" cy="1725480"/>
          </a:xfrm>
        </p:grpSpPr>
        <p:pic>
          <p:nvPicPr>
            <p:cNvPr id="169" name="Picture 11" descr="ANd9GcQ0g2hGgVY9xGUKb7ea3Kg25Rc0f7ahHTYXSH5WRAb7NtnG27Gm"/>
            <p:cNvPicPr/>
            <p:nvPr/>
          </p:nvPicPr>
          <p:blipFill>
            <a:blip r:embed="rId3"/>
            <a:stretch/>
          </p:blipFill>
          <p:spPr>
            <a:xfrm>
              <a:off x="228600" y="1752480"/>
              <a:ext cx="175248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2"/>
            <p:cNvSpPr/>
            <p:nvPr/>
          </p:nvSpPr>
          <p:spPr>
            <a:xfrm>
              <a:off x="1510200" y="17128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620040" y="304920"/>
            <a:ext cx="2562480" cy="1523880"/>
            <a:chOff x="6620040" y="304920"/>
            <a:chExt cx="2562480" cy="1523880"/>
          </a:xfrm>
        </p:grpSpPr>
        <p:pic>
          <p:nvPicPr>
            <p:cNvPr id="172" name="Picture 14" descr="ANd9GcS3B3ArlniSQU1QJCO3_YbKPNMFE8QnAqc7evclJmZq2RJSsILhSe4Je4O5dQ"/>
            <p:cNvPicPr/>
            <p:nvPr/>
          </p:nvPicPr>
          <p:blipFill>
            <a:blip r:embed="rId4"/>
            <a:stretch/>
          </p:blipFill>
          <p:spPr>
            <a:xfrm>
              <a:off x="6620040" y="304920"/>
              <a:ext cx="25239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5"/>
            <p:cNvSpPr/>
            <p:nvPr/>
          </p:nvSpPr>
          <p:spPr>
            <a:xfrm>
              <a:off x="8064360" y="3412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w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620120" y="685800"/>
            <a:ext cx="1523880" cy="2309760"/>
            <a:chOff x="7620120" y="685800"/>
            <a:chExt cx="1523880" cy="2309760"/>
          </a:xfrm>
        </p:grpSpPr>
        <p:pic>
          <p:nvPicPr>
            <p:cNvPr id="175" name="Picture 24" descr="ANd9GcRvyi_5USivW0XAEDhyXrPQJT0ngWF099cW0m7NaQedHB9xnvF7"/>
            <p:cNvPicPr/>
            <p:nvPr/>
          </p:nvPicPr>
          <p:blipFill>
            <a:blip r:embed="rId1"/>
            <a:stretch/>
          </p:blipFill>
          <p:spPr>
            <a:xfrm>
              <a:off x="7620120" y="685800"/>
              <a:ext cx="1523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5"/>
            <p:cNvSpPr/>
            <p:nvPr/>
          </p:nvSpPr>
          <p:spPr>
            <a:xfrm>
              <a:off x="7682760" y="26272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l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eep S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imals will die if they reach the level were there is less pres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ter pressure is good under the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old and dark fa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201840" y="36576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728800" y="440856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ep sea is locat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53200" y="4941720"/>
            <a:ext cx="47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 and Marina Trench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4038480"/>
            <a:ext cx="2857680" cy="2143080"/>
            <a:chOff x="0" y="4038480"/>
            <a:chExt cx="2857680" cy="2143080"/>
          </a:xfrm>
        </p:grpSpPr>
        <p:pic>
          <p:nvPicPr>
            <p:cNvPr id="183" name="Picture 10" descr="butter_ODFW_flipped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2"/>
            <p:cNvSpPr/>
            <p:nvPr/>
          </p:nvSpPr>
          <p:spPr>
            <a:xfrm>
              <a:off x="536040" y="5181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14"/>
          <p:cNvSpPr/>
          <p:nvPr/>
        </p:nvSpPr>
        <p:spPr>
          <a:xfrm>
            <a:off x="0" y="-27000"/>
            <a:ext cx="144792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3848040" y="2886120"/>
            <a:ext cx="144792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62920" y="4419720"/>
            <a:ext cx="1981080" cy="2120760"/>
            <a:chOff x="7162920" y="4419720"/>
            <a:chExt cx="1981080" cy="2120760"/>
          </a:xfrm>
        </p:grpSpPr>
        <p:pic>
          <p:nvPicPr>
            <p:cNvPr id="188" name="Picture 18" descr="ANd9GcQbQPuaYKU8okF3dtEKSNFE6s5it27ak37iz2_RJpDBumH4pJuy"/>
            <p:cNvPicPr/>
            <p:nvPr/>
          </p:nvPicPr>
          <p:blipFill>
            <a:blip r:embed="rId3"/>
            <a:stretch/>
          </p:blipFill>
          <p:spPr>
            <a:xfrm>
              <a:off x="7162920" y="4419720"/>
              <a:ext cx="1981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9"/>
            <p:cNvSpPr/>
            <p:nvPr/>
          </p:nvSpPr>
          <p:spPr>
            <a:xfrm>
              <a:off x="7317360" y="6172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1143000"/>
            <a:ext cx="1857240" cy="2438280"/>
            <a:chOff x="0" y="1143000"/>
            <a:chExt cx="1857240" cy="2438280"/>
          </a:xfrm>
        </p:grpSpPr>
        <p:pic>
          <p:nvPicPr>
            <p:cNvPr id="191" name="Picture 21" descr="ANd9GcSXu_8Z8nOPk6lB8S3ioLn1cogU9sQLOOso-WRYLIpdZJhSnsStXQ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18572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2"/>
            <p:cNvSpPr/>
            <p:nvPr/>
          </p:nvSpPr>
          <p:spPr>
            <a:xfrm>
              <a:off x="291600" y="31608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bew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grasslands have turned into f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in a grassland grows near a lake or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  don’t grow very well in a grassland because there is no a lot of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cations of some grasslands are Mexico and Ca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3557520" y="2300400"/>
            <a:ext cx="2028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0" y="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0" y="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3557520" y="2300400"/>
            <a:ext cx="202896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552840" y="2309760"/>
            <a:ext cx="203832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4800600"/>
            <a:ext cx="2467080" cy="1847880"/>
            <a:chOff x="0" y="4800600"/>
            <a:chExt cx="2467080" cy="1847880"/>
          </a:xfrm>
        </p:grpSpPr>
        <p:pic>
          <p:nvPicPr>
            <p:cNvPr id="201" name="Picture 20" descr="ANd9GcTAd98kzcaheZits6wFOjj231wmK_EfCp_KmMcd6poLcVzh_QeS"/>
            <p:cNvPicPr/>
            <p:nvPr/>
          </p:nvPicPr>
          <p:blipFill>
            <a:blip r:embed="rId1"/>
            <a:stretch/>
          </p:blipFill>
          <p:spPr>
            <a:xfrm>
              <a:off x="0" y="4800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25"/>
            <p:cNvSpPr/>
            <p:nvPr/>
          </p:nvSpPr>
          <p:spPr>
            <a:xfrm>
              <a:off x="292320" y="62085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airie do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34160" y="4962600"/>
            <a:ext cx="2409840" cy="1896840"/>
            <a:chOff x="6734160" y="4962600"/>
            <a:chExt cx="2409840" cy="1896840"/>
          </a:xfrm>
        </p:grpSpPr>
        <p:pic>
          <p:nvPicPr>
            <p:cNvPr id="204" name="Picture 22" descr="ANd9GcRWFFkQQwoBW7Wq0SS7OLQ1UP1AEOFOxupyxRIzcIkRV4dGTXo0"/>
            <p:cNvPicPr/>
            <p:nvPr/>
          </p:nvPicPr>
          <p:blipFill>
            <a:blip r:embed="rId2"/>
            <a:stretch/>
          </p:blipFill>
          <p:spPr>
            <a:xfrm>
              <a:off x="6734160" y="4962600"/>
              <a:ext cx="24098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26"/>
            <p:cNvSpPr/>
            <p:nvPr/>
          </p:nvSpPr>
          <p:spPr>
            <a:xfrm>
              <a:off x="7774560" y="6491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7"/>
          <p:cNvSpPr/>
          <p:nvPr/>
        </p:nvSpPr>
        <p:spPr>
          <a:xfrm>
            <a:off x="15843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1905120" cy="1847880"/>
            <a:chOff x="0" y="0"/>
            <a:chExt cx="1905120" cy="1847880"/>
          </a:xfrm>
        </p:grpSpPr>
        <p:pic>
          <p:nvPicPr>
            <p:cNvPr id="208" name="Picture 6" descr="ANd9GcSU9TW8neeLkOnh6drqsYq-F1DUS4Ir5--0KkUYWWfkRJEdvuU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051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8"/>
            <p:cNvSpPr/>
            <p:nvPr/>
          </p:nvSpPr>
          <p:spPr>
            <a:xfrm>
              <a:off x="231120" y="2286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553080" y="304920"/>
            <a:ext cx="1905120" cy="1743120"/>
            <a:chOff x="6553080" y="304920"/>
            <a:chExt cx="1905120" cy="1743120"/>
          </a:xfrm>
        </p:grpSpPr>
        <p:pic>
          <p:nvPicPr>
            <p:cNvPr id="211" name="Picture 8" descr="ANd9GcSVqPWZKTtzEIPUy-J8q7nJ-p0-3iimdHeI_l29zeyv7FbAUhhN"/>
            <p:cNvPicPr/>
            <p:nvPr/>
          </p:nvPicPr>
          <p:blipFill>
            <a:blip r:embed="rId4"/>
            <a:stretch/>
          </p:blipFill>
          <p:spPr>
            <a:xfrm>
              <a:off x="6553080" y="304920"/>
              <a:ext cx="19051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9"/>
            <p:cNvSpPr/>
            <p:nvPr/>
          </p:nvSpPr>
          <p:spPr>
            <a:xfrm>
              <a:off x="7165800" y="167652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4114800"/>
            <a:ext cx="2276640" cy="2009880"/>
            <a:chOff x="0" y="4114800"/>
            <a:chExt cx="2276640" cy="2009880"/>
          </a:xfrm>
        </p:grpSpPr>
        <p:pic>
          <p:nvPicPr>
            <p:cNvPr id="214" name="Picture 11" descr="ANd9GcS6gr6Yl4kn7FS3mPycrZH2cUTGLuuHNT5u07tLi3nhJpq1QFKhSA"/>
            <p:cNvPicPr/>
            <p:nvPr/>
          </p:nvPicPr>
          <p:blipFill>
            <a:blip r:embed="rId1"/>
            <a:stretch/>
          </p:blipFill>
          <p:spPr>
            <a:xfrm>
              <a:off x="0" y="411480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6"/>
            <p:cNvSpPr/>
            <p:nvPr/>
          </p:nvSpPr>
          <p:spPr>
            <a:xfrm>
              <a:off x="155520" y="571500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nkaj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0" y="0"/>
            <a:ext cx="3124080" cy="2459160"/>
            <a:chOff x="0" y="0"/>
            <a:chExt cx="3124080" cy="2459160"/>
          </a:xfrm>
        </p:grpSpPr>
        <p:pic>
          <p:nvPicPr>
            <p:cNvPr id="217" name="Picture 24" descr="toucan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2408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25"/>
            <p:cNvSpPr/>
            <p:nvPr/>
          </p:nvSpPr>
          <p:spPr>
            <a:xfrm>
              <a:off x="231120" y="16765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opical Rainforest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828440" y="25905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tempter is 26 degr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laces get a big amount of rain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 lot of bugs and fl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327360" y="205740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308640" y="2819520"/>
            <a:ext cx="283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ocation are Brazil and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238880" y="5003640"/>
            <a:ext cx="1905120" cy="1854360"/>
            <a:chOff x="7238880" y="5003640"/>
            <a:chExt cx="1905120" cy="1854360"/>
          </a:xfrm>
        </p:grpSpPr>
        <p:pic>
          <p:nvPicPr>
            <p:cNvPr id="224" name="Picture 13" descr="The-basilisk-green-lizard1"/>
            <p:cNvPicPr/>
            <p:nvPr/>
          </p:nvPicPr>
          <p:blipFill>
            <a:blip r:embed="rId3"/>
            <a:stretch/>
          </p:blipFill>
          <p:spPr>
            <a:xfrm>
              <a:off x="7238880" y="5003640"/>
              <a:ext cx="19051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7"/>
            <p:cNvSpPr/>
            <p:nvPr/>
          </p:nvSpPr>
          <p:spPr>
            <a:xfrm>
              <a:off x="7242120" y="502920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ilisk liz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734160" y="0"/>
            <a:ext cx="2409840" cy="1895400"/>
            <a:chOff x="6734160" y="0"/>
            <a:chExt cx="2409840" cy="1895400"/>
          </a:xfrm>
        </p:grpSpPr>
        <p:pic>
          <p:nvPicPr>
            <p:cNvPr id="227" name="Picture 15" descr="ANd9GcQgNbtw-nrivFRkSQHifzq9mwTL5n0vo0eXW6TDbPtY6DHJApJ_ZA"/>
            <p:cNvPicPr/>
            <p:nvPr/>
          </p:nvPicPr>
          <p:blipFill>
            <a:blip r:embed="rId4"/>
            <a:stretch/>
          </p:blipFill>
          <p:spPr>
            <a:xfrm>
              <a:off x="6734160" y="0"/>
              <a:ext cx="24098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8"/>
            <p:cNvSpPr/>
            <p:nvPr/>
          </p:nvSpPr>
          <p:spPr>
            <a:xfrm>
              <a:off x="6860520" y="1522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ch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Tund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It is a very cold bi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Plants cant grow deep roots in this eco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Trees cant grow in this eco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492000" y="41846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8f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752480" y="4952880"/>
            <a:ext cx="54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The locations of this eco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8f0"/>
                </a:solidFill>
                <a:latin typeface="Arial"/>
              </a:rPr>
              <a:t>Is Canada and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5040360"/>
            <a:ext cx="3048120" cy="1817640"/>
            <a:chOff x="0" y="5040360"/>
            <a:chExt cx="3048120" cy="1817640"/>
          </a:xfrm>
        </p:grpSpPr>
        <p:pic>
          <p:nvPicPr>
            <p:cNvPr id="236" name="Picture 8" descr="ANd9GcRBiEZyjYCQfZkQl9FBLQkpg_VtNdCtRhrJuOwNOVDfivalzc3GR3fgYRLc"/>
            <p:cNvPicPr/>
            <p:nvPr/>
          </p:nvPicPr>
          <p:blipFill>
            <a:blip r:embed="rId1"/>
            <a:stretch/>
          </p:blipFill>
          <p:spPr>
            <a:xfrm>
              <a:off x="0" y="5040360"/>
              <a:ext cx="304812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15"/>
            <p:cNvSpPr/>
            <p:nvPr/>
          </p:nvSpPr>
          <p:spPr>
            <a:xfrm>
              <a:off x="2120400" y="636120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16"/>
          <p:cNvSpPr/>
          <p:nvPr/>
        </p:nvSpPr>
        <p:spPr>
          <a:xfrm>
            <a:off x="615636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715000" y="4495680"/>
            <a:ext cx="3429000" cy="2362320"/>
            <a:chOff x="5715000" y="4495680"/>
            <a:chExt cx="3429000" cy="2362320"/>
          </a:xfrm>
        </p:grpSpPr>
        <p:pic>
          <p:nvPicPr>
            <p:cNvPr id="240" name="Picture 12" descr="ANd9GcQcpi4yUPmpdsIcGhhNi5k1_3w7Vhf50nsJiO8rMPjbidbZhmAxSw"/>
            <p:cNvPicPr/>
            <p:nvPr/>
          </p:nvPicPr>
          <p:blipFill>
            <a:blip r:embed="rId2"/>
            <a:stretch/>
          </p:blipFill>
          <p:spPr>
            <a:xfrm>
              <a:off x="5715000" y="4495680"/>
              <a:ext cx="34290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7"/>
            <p:cNvSpPr/>
            <p:nvPr/>
          </p:nvSpPr>
          <p:spPr>
            <a:xfrm>
              <a:off x="6464160" y="62848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759720" y="0"/>
            <a:ext cx="2384280" cy="2438280"/>
            <a:chOff x="6759720" y="0"/>
            <a:chExt cx="2384280" cy="2438280"/>
          </a:xfrm>
        </p:grpSpPr>
        <p:pic>
          <p:nvPicPr>
            <p:cNvPr id="243" name="Picture 10" descr="ANd9GcTg2aSe9QhKeZrwNNM3Uyfstmsh24DWgH-Uhr-Xn-0lltyqhgvLRw"/>
            <p:cNvPicPr/>
            <p:nvPr/>
          </p:nvPicPr>
          <p:blipFill>
            <a:blip r:embed="rId3"/>
            <a:stretch/>
          </p:blipFill>
          <p:spPr>
            <a:xfrm>
              <a:off x="6759720" y="0"/>
              <a:ext cx="2384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8"/>
            <p:cNvSpPr/>
            <p:nvPr/>
          </p:nvSpPr>
          <p:spPr>
            <a:xfrm>
              <a:off x="6996960" y="189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w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0" y="228600"/>
            <a:ext cx="2019600" cy="1700280"/>
            <a:chOff x="0" y="228600"/>
            <a:chExt cx="2019600" cy="1700280"/>
          </a:xfrm>
        </p:grpSpPr>
        <p:pic>
          <p:nvPicPr>
            <p:cNvPr id="246" name="Picture 14" descr="ANd9GcRVWDkMZeYbReS1ls5Pcago8uMxa5ttIEbs0ybAWW8rs-V4PYU5"/>
            <p:cNvPicPr/>
            <p:nvPr/>
          </p:nvPicPr>
          <p:blipFill>
            <a:blip r:embed="rId4"/>
            <a:stretch/>
          </p:blipFill>
          <p:spPr>
            <a:xfrm>
              <a:off x="0" y="228600"/>
              <a:ext cx="19526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1130040" y="156060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sert biomes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 have very hot we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serts are rocky or sa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nights deserts are very cool during the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796920" y="39560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966680" y="4560840"/>
            <a:ext cx="546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ation of some desert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4952880"/>
            <a:ext cx="2400480" cy="2005200"/>
            <a:chOff x="0" y="4952880"/>
            <a:chExt cx="2400480" cy="2005200"/>
          </a:xfrm>
        </p:grpSpPr>
        <p:pic>
          <p:nvPicPr>
            <p:cNvPr id="253" name="Picture 8" descr="ANd9GcRoYwZAuXcjPunocvK8vjHcN8uSIhtPOsM3oaPGfOijUA_58VXb_w"/>
            <p:cNvPicPr/>
            <p:nvPr/>
          </p:nvPicPr>
          <p:blipFill>
            <a:blip r:embed="rId1"/>
            <a:stretch/>
          </p:blipFill>
          <p:spPr>
            <a:xfrm>
              <a:off x="0" y="4952880"/>
              <a:ext cx="2400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5"/>
            <p:cNvSpPr/>
            <p:nvPr/>
          </p:nvSpPr>
          <p:spPr>
            <a:xfrm>
              <a:off x="901080" y="658980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tle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943680" y="4781520"/>
            <a:ext cx="2200320" cy="2076480"/>
            <a:chOff x="6943680" y="4781520"/>
            <a:chExt cx="2200320" cy="2076480"/>
          </a:xfrm>
        </p:grpSpPr>
        <p:pic>
          <p:nvPicPr>
            <p:cNvPr id="256" name="Picture 12" descr="ANd9GcQ56tsL7aQefxYjbDTyhcZXFZ95r_FFDnnF897D6Res1--vI5VAJg"/>
            <p:cNvPicPr/>
            <p:nvPr/>
          </p:nvPicPr>
          <p:blipFill>
            <a:blip r:embed="rId2"/>
            <a:stretch/>
          </p:blipFill>
          <p:spPr>
            <a:xfrm>
              <a:off x="6943680" y="4781520"/>
              <a:ext cx="220032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6"/>
            <p:cNvSpPr/>
            <p:nvPr/>
          </p:nvSpPr>
          <p:spPr>
            <a:xfrm>
              <a:off x="7857360" y="50292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ck 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867360" y="0"/>
            <a:ext cx="2276640" cy="2044800"/>
            <a:chOff x="6867360" y="0"/>
            <a:chExt cx="2276640" cy="2044800"/>
          </a:xfrm>
        </p:grpSpPr>
        <p:pic>
          <p:nvPicPr>
            <p:cNvPr id="259" name="Picture 14" descr="ANd9GcSxMB632AQ8DHz7drzLaTangteg1nMEBQG5zABty5kTVm2a0RXhQw"/>
            <p:cNvPicPr/>
            <p:nvPr/>
          </p:nvPicPr>
          <p:blipFill>
            <a:blip r:embed="rId3"/>
            <a:stretch/>
          </p:blipFill>
          <p:spPr>
            <a:xfrm>
              <a:off x="6867360" y="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8"/>
            <p:cNvSpPr/>
            <p:nvPr/>
          </p:nvSpPr>
          <p:spPr>
            <a:xfrm>
              <a:off x="7698960" y="167652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t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0" y="0"/>
            <a:ext cx="2390760" cy="1914480"/>
            <a:chOff x="0" y="0"/>
            <a:chExt cx="2390760" cy="1914480"/>
          </a:xfrm>
        </p:grpSpPr>
        <p:pic>
          <p:nvPicPr>
            <p:cNvPr id="262" name="Picture 10" descr="ANd9GcSXAWk4wKJVl_-uxwkdxACO9C6LYttz7caFbah8B-R_a2CtqxG2mmQwsuN6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90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9"/>
            <p:cNvSpPr/>
            <p:nvPr/>
          </p:nvSpPr>
          <p:spPr>
            <a:xfrm>
              <a:off x="154800" y="1522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z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ANd9GcRvCBhOXN9gs7JsaIvxeG0egJxPuJeIece5F8-nPZcU0_k6B0UjX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3399ff"/>
                </a:solidFill>
                <a:latin typeface="Arial"/>
              </a:rPr>
              <a:t>Taiga biom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872880" y="441324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201040" y="52182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ew locations where taigas are located is Canada and 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ga biomes has a cold temp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that live in taiga biomes need to have fur or feathers to keep them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les on a tree have a wax coating to help keep the trees wa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0" y="0"/>
            <a:ext cx="2266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3438360" y="2490840"/>
            <a:ext cx="22672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2276640" cy="2009880"/>
            <a:chOff x="0" y="0"/>
            <a:chExt cx="2276640" cy="2009880"/>
          </a:xfrm>
        </p:grpSpPr>
        <p:pic>
          <p:nvPicPr>
            <p:cNvPr id="272" name="Picture 16" descr="ANd9GcTUOETvMNjEm2avoLonFy80i-Lsdg0cA0DlQOUmyPehDV7linNaAA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276640" cy="20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23"/>
            <p:cNvSpPr/>
            <p:nvPr/>
          </p:nvSpPr>
          <p:spPr>
            <a:xfrm>
              <a:off x="459720" y="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76920" y="0"/>
            <a:ext cx="2467080" cy="1847880"/>
            <a:chOff x="6676920" y="0"/>
            <a:chExt cx="2467080" cy="1847880"/>
          </a:xfrm>
        </p:grpSpPr>
        <p:pic>
          <p:nvPicPr>
            <p:cNvPr id="275" name="Picture 22" descr="ANd9GcSU9TW8neeLkOnh6drqsYq-F1DUS4Ir5--0KkUYWWfkRJEdvuUg"/>
            <p:cNvPicPr/>
            <p:nvPr/>
          </p:nvPicPr>
          <p:blipFill>
            <a:blip r:embed="rId3"/>
            <a:stretch/>
          </p:blipFill>
          <p:spPr>
            <a:xfrm>
              <a:off x="6676920" y="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4"/>
            <p:cNvSpPr/>
            <p:nvPr/>
          </p:nvSpPr>
          <p:spPr>
            <a:xfrm>
              <a:off x="8555760" y="3049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5057640"/>
            <a:ext cx="2171880" cy="1800360"/>
            <a:chOff x="0" y="5057640"/>
            <a:chExt cx="2171880" cy="1800360"/>
          </a:xfrm>
        </p:grpSpPr>
        <p:pic>
          <p:nvPicPr>
            <p:cNvPr id="278" name="Picture 11" descr="ANd9GcTFtt2DjE11tN60TFXl3jqocF36UFbP8a9u6SoYs2l-Gy6HST7k"/>
            <p:cNvPicPr/>
            <p:nvPr/>
          </p:nvPicPr>
          <p:blipFill>
            <a:blip r:embed="rId4"/>
            <a:stretch/>
          </p:blipFill>
          <p:spPr>
            <a:xfrm>
              <a:off x="0" y="5057640"/>
              <a:ext cx="21718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5"/>
            <p:cNvSpPr/>
            <p:nvPr/>
          </p:nvSpPr>
          <p:spPr>
            <a:xfrm>
              <a:off x="764280" y="63244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76920" y="5010120"/>
            <a:ext cx="2467080" cy="1847880"/>
            <a:chOff x="6676920" y="5010120"/>
            <a:chExt cx="2467080" cy="1847880"/>
          </a:xfrm>
        </p:grpSpPr>
        <p:pic>
          <p:nvPicPr>
            <p:cNvPr id="281" name="Picture 13" descr="ANd9GcS8rH3ayS0tnXZsXOL3SCYQMZe432M7oRhWQW9VEin1eIVFMdTDtw"/>
            <p:cNvPicPr/>
            <p:nvPr/>
          </p:nvPicPr>
          <p:blipFill>
            <a:blip r:embed="rId5"/>
            <a:stretch/>
          </p:blipFill>
          <p:spPr>
            <a:xfrm>
              <a:off x="667692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6"/>
            <p:cNvSpPr/>
            <p:nvPr/>
          </p:nvSpPr>
          <p:spPr>
            <a:xfrm>
              <a:off x="6768000" y="63612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ANd9GcS02TEivGyXI2XdYGTYuZy6OtNfVc4UMskFgsp48I4Dgsttb4MT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746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6934320" y="5181480"/>
            <a:ext cx="2209680" cy="1705320"/>
            <a:chOff x="6934320" y="5181480"/>
            <a:chExt cx="2209680" cy="1705320"/>
          </a:xfrm>
        </p:grpSpPr>
        <p:pic>
          <p:nvPicPr>
            <p:cNvPr id="285" name="Picture 15" descr="ANd9GcQ0KZxPT6lCTLUXJCGMP7fV4TvLMt8qCU1MI4fEzeS0xHPgXU04gQ"/>
            <p:cNvPicPr/>
            <p:nvPr/>
          </p:nvPicPr>
          <p:blipFill>
            <a:blip r:embed="rId2"/>
            <a:stretch/>
          </p:blipFill>
          <p:spPr>
            <a:xfrm>
              <a:off x="6934320" y="5181480"/>
              <a:ext cx="2209680" cy="167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9"/>
            <p:cNvSpPr/>
            <p:nvPr/>
          </p:nvSpPr>
          <p:spPr>
            <a:xfrm>
              <a:off x="7012080" y="651852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13" descr="ANd9GcTlEukBL70BkN1f8SQpo9FEPGqyQuFzopk5fYxDcCXSq_iHinp3"/>
          <p:cNvPicPr/>
          <p:nvPr/>
        </p:nvPicPr>
        <p:blipFill>
          <a:blip r:embed="rId3"/>
          <a:stretch/>
        </p:blipFill>
        <p:spPr>
          <a:xfrm>
            <a:off x="6524640" y="6094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ciduous Fores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ciduous forest doesn’t get a lot of 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cool in the deciduous fo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nimals there die because of starv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4025520" y="4489560"/>
            <a:ext cx="20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2666880" y="5181480"/>
            <a:ext cx="56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tion of some deciduous forest are the Un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 and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ANd9GcRbbbZ4wIU7nJDP1QH9dgALTEM0gr0OalrZHTAFCDgc36nRdlSw"/>
          <p:cNvPicPr/>
          <p:nvPr/>
        </p:nvPicPr>
        <p:blipFill>
          <a:blip r:embed="rId4"/>
          <a:stretch/>
        </p:blipFill>
        <p:spPr>
          <a:xfrm>
            <a:off x="0" y="5334120"/>
            <a:ext cx="26384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0" y="0"/>
            <a:ext cx="2552760" cy="1790640"/>
            <a:chOff x="0" y="0"/>
            <a:chExt cx="2552760" cy="1790640"/>
          </a:xfrm>
        </p:grpSpPr>
        <p:pic>
          <p:nvPicPr>
            <p:cNvPr id="294" name="Picture 11" descr="ANd9GcRdin56zrZoqfHA5b9NG47EIEnVtc9HyqkHlYpn0IAiMq7beL12RA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5527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6"/>
            <p:cNvSpPr/>
            <p:nvPr/>
          </p:nvSpPr>
          <p:spPr>
            <a:xfrm>
              <a:off x="366840" y="1407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1510560" y="5275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7987680" y="2017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7:43Z</dcterms:created>
  <dc:creator>KC3352</dc:creator>
  <dc:description/>
  <dc:language>en-US</dc:language>
  <cp:lastModifiedBy>KC3352</cp:lastModifiedBy>
  <dcterms:modified xsi:type="dcterms:W3CDTF">2012-11-12T19:53:01Z</dcterms:modified>
  <cp:revision>13</cp:revision>
  <dc:subject/>
  <dc:title>Water and land Ecosystems</dc:title>
</cp:coreProperties>
</file>